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apert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9171D8-7E2C-4452-AB0F-C88D534CD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86F320-2CC9-49CF-ABB6-CF39A1A0A83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BB8540-F2B1-46B9-A566-DB9A90C4B29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blemi che sono dietro al calcolo della DFS in meomria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99ED22-FFA9-4BFB-9E61-D660383FA4E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C18B54-C1DD-4981-B219-9A91D16773C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62D3A8-CBA1-40D4-BF96-4BA8F92368F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C56596-BD1D-4BE7-9670-BA0225056BE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DE3CC5-A1EA-4650-A7BD-E621EC85E5C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D9D7CB-20FD-47AC-B4C8-545E5D6CA63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9BBA04-49AE-4CC9-84DC-308CBFEA34E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E2DA03-8B2F-46F2-8630-788DD5F26B5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1D0A5D-465D-41C2-AC50-CCB669722F2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52BA4A-628B-457E-BFE7-0BF5BDC54E4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05C3B0-7BE1-4491-8174-AEDE58EC600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DEADE0-4BE0-49CA-B41D-01CB9327198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0154AE-C409-4765-8F34-B1939F7427E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13E359-E936-454D-8AA1-3AF86CE5BCF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8DBD95-1163-41A9-8AB2-C6890513A9E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FEF-C096-4B03-A4F3-969B336F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18C-E425-4B8A-A8AB-34F7148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1C1-D512-4617-B903-7DA69FD1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40D-B66D-41D2-93EE-D0A59562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847-EB67-42DB-BD23-409611E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414E-EED5-4A46-8E33-7D0C4F14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E561-6649-4A97-8610-CB98719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157D-2C3B-42AD-B41A-0E38175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289-437C-457B-8710-EAF2808F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B9F7-B6A0-440D-82EF-436B117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14EE-4143-469D-93F0-6665568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350-9DA3-4926-9563-61A4761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B62-74D6-43B9-A039-ED8C340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F5C-EC63-497C-8397-8F3EDDF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44DB-0AF1-4B06-A2BF-29321FBD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58F-E222-4F3B-A671-0283DE79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CB86-337F-4338-B4A5-3CB90FC8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16E-7A16-4FE1-A9DB-5CF3B2E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99D-1030-4E5E-BCAA-B9109DA6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6C8-B7CE-4F3C-9164-D935741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181-8B49-4685-BE76-8BE9F00C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8C5-F97B-48B0-A517-B962C2F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320-6483-4089-AC31-9E48BF4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8AE-3BC8-4341-B3F8-2B82C2C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3C8B-5911-4E6E-8CEC-D1BB7298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781-E24A-4F0D-B3DA-8A37A37A16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apert.wav"/><Relationship Id="rId5" Type="http://schemas.openxmlformats.org/officeDocument/2006/relationships/audio" Target="../media/apert.wav"/><Relationship Id="rId6" Type="http://schemas.openxmlformats.org/officeDocument/2006/relationships/audio" Target="../media/apert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CasellaDiTesto 1"/>
          <p:cNvSpPr/>
          <p:nvPr/>
        </p:nvSpPr>
        <p:spPr>
          <a:xfrm>
            <a:off x="8847000" y="323208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39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42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45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  <a:ea typeface="Arial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ppiness: elusive to meas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monest approach is given by th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relev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of search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measure it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3 elemen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document coll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suite of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inary assessment of eit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each query-doc pai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valuating an IR syst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Standard benchma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REC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tional Institute of Standards and Testing (NIST) has run large IR testbed for many yea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ther doc colle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rked by human experts, for each query and for each do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57340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On the Web everything is more complicated since we cannot mark the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entire corpu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Arial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161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482920" y="272088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"/>
          <p:cNvSpPr/>
          <p:nvPr/>
        </p:nvSpPr>
        <p:spPr>
          <a:xfrm rot="19926600">
            <a:off x="1720440" y="363528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483280" y="5235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911920" y="317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87280" y="2637000"/>
            <a:ext cx="685800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362960" y="25686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64328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859280" y="3284640"/>
            <a:ext cx="14436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507672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5292720" y="321300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5508720" y="3213000"/>
            <a:ext cx="142920" cy="1152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24360" y="3284640"/>
            <a:ext cx="71640" cy="865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4356000" y="3429000"/>
            <a:ext cx="144720" cy="10796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4067280" y="3500280"/>
            <a:ext cx="144360" cy="1008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3780000" y="364500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419640" y="378936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3635280" y="3716280"/>
            <a:ext cx="0" cy="649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3132000" y="393372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24000" y="19162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  <a:ea typeface="Arial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Arial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get high recall (but low precision) by retrieving all docs for all queries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is a non-decreasing function of the number of docs retrie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usually decreas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measures Precision at various levels of 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it is an AVERAGE over many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6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7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07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8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is if you need to optimize a single measure that balances precision and recall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19.1 and 19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static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6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3" name="AutoShape 8"/>
          <p:cNvCxnSpPr>
            <a:stCxn id="229" idx="6"/>
            <a:endCxn id="232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4" name="AutoShape 9"/>
          <p:cNvCxnSpPr>
            <a:stCxn id="229" idx="5"/>
            <a:endCxn id="230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5" name="AutoShape 10"/>
          <p:cNvCxnSpPr>
            <a:stCxn id="231" idx="7"/>
            <a:endCxn id="229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6" name="AutoShape 11"/>
          <p:cNvCxnSpPr>
            <a:stCxn id="230" idx="2"/>
            <a:endCxn id="231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7" name="AutoShape 12"/>
          <p:cNvCxnSpPr>
            <a:stCxn id="229" idx="3"/>
            <a:endCxn id="231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8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ind the CO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64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Iterate the following proces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Pick a random vertex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reached from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that reach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SCC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:= 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0" i="1" lang="it-IT" sz="2400" spc="-1" strike="noStrike">
                <a:solidFill>
                  <a:srgbClr val="000099"/>
                </a:solidFill>
                <a:latin typeface="Arial Narrow"/>
              </a:rPr>
              <a:t>∩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heck whether it is the largest S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79280" y="5770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f the CORE is about ¼ of the vertices, after 20 iterations, Pb to not find the core &lt; 1% (given that the graph is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ailab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mpute SC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Lucida Sans"/>
              </a:rPr>
              <a:t>Classical Algorithm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ranspos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following vertices in decreasing order of  the time their visit ended at step 1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very tree is a SC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FS is hard to compute on disk: </a:t>
            </a:r>
            <a:r>
              <a:rPr b="0" i="1" lang="it-IT" sz="2600" spc="-1" strike="noStrike">
                <a:solidFill>
                  <a:srgbClr val="a40508"/>
                </a:solidFill>
                <a:latin typeface="Lucida Sans"/>
              </a:rPr>
              <a:t>no local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  <a:ea typeface="Arial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  <a:ea typeface="Arial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Arial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  <a:ea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79280" y="585792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24360" y="2133720"/>
            <a:ext cx="446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FS(u:verte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lor[u]=GR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+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each v in succ[u] d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f (color[v]=WHITE) the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[v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FS(v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lor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BLAC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[u]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ime + 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80880" y="16858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ssical Appro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38275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Lucida Sans"/>
              </a:rPr>
              <a:t>main()</a:t>
            </a:r>
            <a:r>
              <a:rPr b="0" i="1" lang="it-IT" sz="1500" spc="-1" strike="noStrike">
                <a:solidFill>
                  <a:srgbClr val="000000"/>
                </a:solidFill>
                <a:latin typeface="Lucida San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lor[v]=WHIT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if (color[v]==WHITE)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DFS(v);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4000" y="3141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4000" y="3933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00720" y="4365720"/>
            <a:ext cx="2808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5796000" y="3294000"/>
            <a:ext cx="2592360" cy="566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72000" y="2421000"/>
            <a:ext cx="2879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eft Arrow 12"/>
          <p:cNvSpPr/>
          <p:nvPr/>
        </p:nvSpPr>
        <p:spPr>
          <a:xfrm>
            <a:off x="7631280" y="2924280"/>
            <a:ext cx="1512720" cy="50472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emi-External 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9640" y="357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  <a:ea typeface="Arial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f bit-array fits in internal memory than a DFS takes |V| + |E|/B disk access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1844640"/>
            <a:ext cx="7705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Bit array of nodes        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Array of successors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Stack of the DFS-recur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bserving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hysical network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“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emantic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size of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19.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is the size of the web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web is really infinit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ynamic content, e.g., calenda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c web contains syntactic duplication, mostly due to mirroring (~30%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ome servers are seldom connec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Who car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edia, and consequently the u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de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can we attempt to measur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relative sizes of search engin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extension: e.g. engines index pages not yet crawled, by indexing anchor-tex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restriction: All engines restrict what is indexed (first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words, only relevant words, etc.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coverage of a search engine relative to another particular crawling proces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809880" y="3429000"/>
            <a:ext cx="53341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=  (1/2) * Size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=  (1/6) * Size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1/2)*Size A = (1/6)*Size 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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ize A / Size B 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1/6)/(1/2) = 1/3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581280" y="1863720"/>
            <a:ext cx="5486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URLs randomly from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if contained in B and vice vers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04920" y="1828800"/>
            <a:ext cx="3200400" cy="3484440"/>
            <a:chOff x="304920" y="1828800"/>
            <a:chExt cx="3200400" cy="3484440"/>
          </a:xfrm>
        </p:grpSpPr>
        <p:pic>
          <p:nvPicPr>
            <p:cNvPr id="282" name="Picture 5" descr="inter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200400" cy="3484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83" name="Rectangle 6"/>
            <p:cNvSpPr/>
            <p:nvPr/>
          </p:nvSpPr>
          <p:spPr>
            <a:xfrm>
              <a:off x="1388520" y="3352680"/>
              <a:ext cx="473760" cy="228600"/>
            </a:xfrm>
            <a:prstGeom prst="rect">
              <a:avLst/>
            </a:prstGeom>
            <a:solidFill>
              <a:srgbClr val="f2f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1185480" y="3276720"/>
              <a:ext cx="88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Text Box 8"/>
          <p:cNvSpPr/>
          <p:nvPr/>
        </p:nvSpPr>
        <p:spPr>
          <a:xfrm>
            <a:off x="793800" y="6437160"/>
            <a:ext cx="78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  <a:ea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Lucida Sans"/>
                <a:ea typeface="Arial"/>
              </a:rPr>
              <a:t>Each test involves: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(i) Sampling URL  (ii) Checking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61920" y="912960"/>
            <a:ext cx="72201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Relative Size from Overla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Given two engines A and 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9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ounded Rectangular Callout 11"/>
          <p:cNvSpPr/>
          <p:nvPr/>
        </p:nvSpPr>
        <p:spPr>
          <a:xfrm>
            <a:off x="5076720" y="3213000"/>
            <a:ext cx="1008000" cy="1079640"/>
          </a:xfrm>
          <a:prstGeom prst="wedgeRoundRectCallout">
            <a:avLst>
              <a:gd name="adj1" fmla="val 134851"/>
              <a:gd name="adj2" fmla="val -10302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Sampling UR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deal strategy: Generate a random URL and check for containment in each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Random URLs are hard to find!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4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1: Generate a random URL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urely contain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a given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2: Random walks or random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2732" t="20527" r="21940" b="14306"/>
          <a:stretch/>
        </p:blipFill>
        <p:spPr>
          <a:xfrm>
            <a:off x="127080" y="144360"/>
            <a:ext cx="898200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#1: Random URL in SE via random quer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7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-2952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Generat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"/>
                <a:ea typeface="MS PGothic"/>
              </a:rPr>
              <a:t>random quer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Lexicon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400,000+ words from a web craw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Conjunctive Queri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and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.g.,  vocalists AND  r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Get 100 result URLs from engine 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hoose a random URL as the candidate to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che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for presence in search engine B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(next slid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is induces a probability weight W(p) for each pag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Conjecture: 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/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~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 /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733320"/>
            <a:ext cx="72198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URL chec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672920"/>
            <a:ext cx="80881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ownload D at address URL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Get list of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se 8 low frequency words as AND query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resent in result se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ear 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time-ou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s 8-word query good enough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stically sound under the induced weigh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Biases induced by random query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Favors content-rich pages in the language(s) of the lexic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Ranking bias [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Use conjunctive queries &amp; fetch all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restriction bias: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might not deal properly with 8 words conjunctiv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licious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abotage by engin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Operational Problem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ime-outs, failures, engine inconsistencies, index modificat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#2: Random IP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ind a web server at the given IP addr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there’s 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ollect all pages from serv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rom this, choose a page at rando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473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lean statist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dependent of crawling strateg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ny hosts might share one IP, or not accept requ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o guarantee all pages are linked to root page, and thus can be collected.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Power law for # pages/hosts generates bias towards sites with few pag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No sampling solution is perfect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Lots of new ideas 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....but the problem is getting ha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Quantitative studies are fascinating and a good research 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Reading 20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9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9"/>
          <p:cNvSpPr/>
          <p:nvPr/>
        </p:nvSpPr>
        <p:spPr>
          <a:xfrm>
            <a:off x="720360" y="6413400"/>
            <a:ext cx="63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  <a:ea typeface="Arial"/>
              </a:rPr>
              <a:t>This is true also for: out-degree, size components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rcRect l="14513" t="20527" r="14272" b="334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20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9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ront-compression of URLs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+ delta encoding of ID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2376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1042920" y="4165560"/>
            <a:ext cx="3260880" cy="2654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5219640" y="4135320"/>
            <a:ext cx="3287880" cy="2722680"/>
          </a:xfrm>
          <a:prstGeom prst="rect">
            <a:avLst/>
          </a:prstGeom>
          <a:ln w="0">
            <a:noFill/>
          </a:ln>
        </p:spPr>
      </p:pic>
      <p:sp>
        <p:nvSpPr>
          <p:cNvPr id="338" name="Oval 6"/>
          <p:cNvSpPr/>
          <p:nvPr/>
        </p:nvSpPr>
        <p:spPr>
          <a:xfrm>
            <a:off x="3419640" y="4724280"/>
            <a:ext cx="460080" cy="360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1187280" y="4959360"/>
            <a:ext cx="460440" cy="468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0" name="Group 8"/>
          <p:cNvGrpSpPr/>
          <p:nvPr/>
        </p:nvGrpSpPr>
        <p:grpSpPr>
          <a:xfrm>
            <a:off x="7667640" y="4797360"/>
            <a:ext cx="376200" cy="297000"/>
            <a:chOff x="7667640" y="4797360"/>
            <a:chExt cx="376200" cy="297000"/>
          </a:xfrm>
        </p:grpSpPr>
        <p:sp>
          <p:nvSpPr>
            <p:cNvPr id="341" name="Oval 9"/>
            <p:cNvSpPr/>
            <p:nvPr/>
          </p:nvSpPr>
          <p:spPr>
            <a:xfrm>
              <a:off x="7667640" y="4797360"/>
              <a:ext cx="376200" cy="2970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2" name="Group 10"/>
          <p:cNvGrpSpPr/>
          <p:nvPr/>
        </p:nvGrpSpPr>
        <p:grpSpPr>
          <a:xfrm>
            <a:off x="7651800" y="5300640"/>
            <a:ext cx="376200" cy="297000"/>
            <a:chOff x="7651800" y="5300640"/>
            <a:chExt cx="376200" cy="297000"/>
          </a:xfrm>
        </p:grpSpPr>
        <p:sp>
          <p:nvSpPr>
            <p:cNvPr id="343" name="Oval 11"/>
            <p:cNvSpPr/>
            <p:nvPr/>
          </p:nvSpPr>
          <p:spPr>
            <a:xfrm>
              <a:off x="7651800" y="5300640"/>
              <a:ext cx="376200" cy="297000"/>
            </a:xfrm>
            <a:prstGeom prst="ellipse">
              <a:avLst/>
            </a:prstGeom>
            <a:noFill/>
            <a:ln w="36000">
              <a:solidFill>
                <a:srgbClr val="2300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4" name="Oval 12"/>
          <p:cNvSpPr/>
          <p:nvPr/>
        </p:nvSpPr>
        <p:spPr>
          <a:xfrm>
            <a:off x="3348000" y="5229360"/>
            <a:ext cx="515880" cy="468000"/>
          </a:xfrm>
          <a:prstGeom prst="ellipse">
            <a:avLst/>
          </a:prstGeom>
          <a:noFill/>
          <a:ln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5796000" y="1628640"/>
            <a:ext cx="144000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  <a:ea typeface="Arial"/>
              </a:rPr>
              <a:t>Front-coding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library </a:t>
            </a:r>
            <a:r>
              <a:rPr b="0" lang="it-IT" sz="4000" spc="-1" strike="noStrike">
                <a:solidFill>
                  <a:srgbClr val="a40508"/>
                </a:solidFill>
                <a:latin typeface="Comic Sans MS"/>
              </a:rPr>
              <a:t>Web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42800" y="3357720"/>
            <a:ext cx="8307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uccessor list S(x) = {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x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1, ...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1}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or negative entri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2"/>
          <a:stretch/>
        </p:blipFill>
        <p:spPr>
          <a:xfrm>
            <a:off x="3203640" y="3956040"/>
            <a:ext cx="2906640" cy="984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9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3"/>
          <a:stretch/>
        </p:blipFill>
        <p:spPr>
          <a:xfrm>
            <a:off x="3348000" y="5049720"/>
            <a:ext cx="5110200" cy="1835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155520" y="5155560"/>
            <a:ext cx="28195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mpressed gap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  <a:ea typeface="Arial"/>
              </a:rPr>
              <a:t>(local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lists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lose nodes sharemany success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ference index is chosen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  <a:ea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5580000" y="18900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ference ch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ly limi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first copy block is 0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if the copy list starts with 0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  <a:ea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  <a:ea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  <a:ea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  <a:ea typeface="Arial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7"/>
          <p:cNvGrpSpPr/>
          <p:nvPr/>
        </p:nvGrpSpPr>
        <p:grpSpPr>
          <a:xfrm>
            <a:off x="1805040" y="3382920"/>
            <a:ext cx="7338960" cy="1558800"/>
            <a:chOff x="1805040" y="3382920"/>
            <a:chExt cx="7338960" cy="1558800"/>
          </a:xfrm>
        </p:grpSpPr>
        <p:pic>
          <p:nvPicPr>
            <p:cNvPr id="379" name="Picture 6" descr=""/>
            <p:cNvPicPr/>
            <p:nvPr/>
          </p:nvPicPr>
          <p:blipFill>
            <a:blip r:embed="rId1"/>
            <a:stretch/>
          </p:blipFill>
          <p:spPr>
            <a:xfrm>
              <a:off x="1805040" y="3382920"/>
              <a:ext cx="73389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ompressing Interv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6193080" cy="17413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  <a:ea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  <a:ea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  <a:ea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  <a:ea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  <a:ea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  <a:ea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  <a:ea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  <a:ea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  <a:ea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8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389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391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2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  <a:ea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156360" y="1557360"/>
            <a:ext cx="2808360" cy="17272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5364000" y="3392640"/>
            <a:ext cx="3780000" cy="151272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  <a:ea typeface="Arial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6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397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8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399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0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401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2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403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4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765000"/>
            <a:ext cx="889308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rcRect l="28351" t="13408" r="29350" b="11717"/>
          <a:stretch/>
        </p:blipFill>
        <p:spPr>
          <a:xfrm>
            <a:off x="154764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ferragin\Desktop\My Dropbox\Anonimo.pn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ferragin\Desktop\My Dropbox\Anonimo2.png"/>
          <p:cNvPicPr/>
          <p:nvPr/>
        </p:nvPicPr>
        <p:blipFill>
          <a:blip r:embed="rId4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14400" y="3686040"/>
            <a:ext cx="4376520" cy="3164040"/>
            <a:chOff x="14400" y="3686040"/>
            <a:chExt cx="4376520" cy="3164040"/>
          </a:xfrm>
        </p:grpSpPr>
        <p:sp>
          <p:nvSpPr>
            <p:cNvPr id="117" name="Freeform 5"/>
            <p:cNvSpPr/>
            <p:nvPr/>
          </p:nvSpPr>
          <p:spPr>
            <a:xfrm>
              <a:off x="14400" y="3686040"/>
              <a:ext cx="4376520" cy="3156120"/>
            </a:xfrm>
            <a:custGeom>
              <a:avLst/>
              <a:gdLst>
                <a:gd name="textAreaLeft" fmla="*/ 0 w 4376520"/>
                <a:gd name="textAreaRight" fmla="*/ 4376880 w 4376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28800" y="3823920"/>
              <a:ext cx="4151160" cy="3026160"/>
            </a:xfrm>
            <a:custGeom>
              <a:avLst/>
              <a:gdLst>
                <a:gd name="textAreaLeft" fmla="*/ 0 w 4151160"/>
                <a:gd name="textAreaRight" fmla="*/ 4151520 w 415116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4643280" y="3720960"/>
            <a:ext cx="4376880" cy="3164040"/>
            <a:chOff x="4643280" y="3720960"/>
            <a:chExt cx="4376880" cy="3164040"/>
          </a:xfrm>
        </p:grpSpPr>
        <p:sp>
          <p:nvSpPr>
            <p:cNvPr id="120" name="Freeform 9"/>
            <p:cNvSpPr/>
            <p:nvPr/>
          </p:nvSpPr>
          <p:spPr>
            <a:xfrm>
              <a:off x="4643280" y="3720960"/>
              <a:ext cx="4376880" cy="3156120"/>
            </a:xfrm>
            <a:custGeom>
              <a:avLst/>
              <a:gdLst>
                <a:gd name="textAreaLeft" fmla="*/ 0 w 4376880"/>
                <a:gd name="textAreaRight" fmla="*/ 4377240 w 437688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57680" y="3858840"/>
              <a:ext cx="4151520" cy="3026160"/>
            </a:xfrm>
            <a:custGeom>
              <a:avLst/>
              <a:gdLst>
                <a:gd name="textAreaLeft" fmla="*/ 0 w 4151520"/>
                <a:gd name="textAreaRight" fmla="*/ 4151880 w 41515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ounded Rectangle 11"/>
          <p:cNvSpPr/>
          <p:nvPr/>
        </p:nvSpPr>
        <p:spPr>
          <a:xfrm>
            <a:off x="6227640" y="4797360"/>
            <a:ext cx="1729080" cy="792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2009-1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1619280" y="4653000"/>
            <a:ext cx="1728720" cy="792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  <a:ea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1-27T14:40:01Z</dcterms:modified>
  <cp:revision>1191</cp:revision>
  <dc:subject/>
  <dc:title>Web Algorithmics</dc:title>
</cp:coreProperties>
</file>